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287-164E-4011-8714-E06FF6BF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68F-2020-4C98-8165-E22D9090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399-C700-4DC7-902C-32A820AD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0EB-1A6C-4661-975A-DC62D213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E2B-BB79-4A45-9C50-43951F77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F72-F1F0-4AAB-8DAA-C772F32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B90-739F-4153-92E6-951A255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4BA-0AFF-4CB0-A10D-0D88F4DF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50D-7A26-4879-A213-8A5DD08F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335-9275-4193-96FA-232693F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F48-EC68-4BFE-A2A5-30E4270F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E2A-21B9-4296-9EAB-7EADBD4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B04-A190-4DD0-8CA5-BB253A47A5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026730"/>
              </a:gs>
              <a:gs pos="50000">
                <a:srgbClr val="05e169"/>
              </a:gs>
              <a:gs pos="100000">
                <a:srgbClr val="02673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80360" cy="59500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0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T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49228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71628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00720" y="3716280"/>
            <a:ext cx="50292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450864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585324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 potencial de membranas en re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hidroeléc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84360" y="4724280"/>
            <a:ext cx="1008000" cy="798840"/>
            <a:chOff x="2484360" y="4724280"/>
            <a:chExt cx="1008000" cy="798840"/>
          </a:xfrm>
        </p:grpSpPr>
        <p:sp>
          <p:nvSpPr>
            <p:cNvPr id="129" name=""/>
            <p:cNvSpPr/>
            <p:nvPr/>
          </p:nvSpPr>
          <p:spPr>
            <a:xfrm>
              <a:off x="2484360" y="472428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44720" y="4941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132" name="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325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92232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POTASIO POR CATECOLAMINAS  (A y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139" name="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rot="10800000">
            <a:off x="3492360" y="17002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91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9640" y="2970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249228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407664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155" name="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900520"/>
            <a:ext cx="273708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34936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6021360"/>
            <a:ext cx="7129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: Ingreso 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hiperca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11640" y="314172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 Y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373720"/>
            <a:ext cx="41767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5300640"/>
            <a:ext cx="43192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50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02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2384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187" name=""/>
            <p:cNvSpPr/>
            <p:nvPr/>
          </p:nvSpPr>
          <p:spPr>
            <a:xfrm>
              <a:off x="900000" y="328140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63520" y="328932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0560" y="1625760"/>
            <a:ext cx="3384360" cy="1572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(+)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4869000"/>
            <a:ext cx="1800000" cy="433080"/>
          </a:xfrm>
          <a:prstGeom prst="rightArrow">
            <a:avLst>
              <a:gd name="adj1" fmla="val 50000"/>
              <a:gd name="adj2" fmla="val 10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422100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QUIDO INTERST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5373720"/>
            <a:ext cx="143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503800">
            <a:off x="3562920" y="3860280"/>
            <a:ext cx="237636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3645000"/>
            <a:ext cx="166680" cy="2663640"/>
          </a:xfrm>
          <a:custGeom>
            <a:avLst/>
            <a:gdLst/>
            <a:ahLst/>
            <a:rect l="l" t="t" r="r" b="b"/>
            <a:pathLst>
              <a:path w="105" h="1678">
                <a:moveTo>
                  <a:pt x="105" y="0"/>
                </a:moveTo>
                <a:cubicBezTo>
                  <a:pt x="67" y="49"/>
                  <a:pt x="30" y="99"/>
                  <a:pt x="15" y="182"/>
                </a:cubicBezTo>
                <a:cubicBezTo>
                  <a:pt x="0" y="265"/>
                  <a:pt x="8" y="416"/>
                  <a:pt x="15" y="499"/>
                </a:cubicBezTo>
                <a:cubicBezTo>
                  <a:pt x="22" y="582"/>
                  <a:pt x="53" y="574"/>
                  <a:pt x="60" y="680"/>
                </a:cubicBezTo>
                <a:cubicBezTo>
                  <a:pt x="67" y="786"/>
                  <a:pt x="67" y="1028"/>
                  <a:pt x="60" y="1134"/>
                </a:cubicBezTo>
                <a:cubicBezTo>
                  <a:pt x="53" y="1240"/>
                  <a:pt x="7" y="1225"/>
                  <a:pt x="15" y="1316"/>
                </a:cubicBezTo>
                <a:cubicBezTo>
                  <a:pt x="23" y="1407"/>
                  <a:pt x="90" y="1618"/>
                  <a:pt x="105" y="167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5280" y="3860640"/>
            <a:ext cx="720720" cy="936720"/>
            <a:chOff x="3635280" y="3860640"/>
            <a:chExt cx="720720" cy="936720"/>
          </a:xfrm>
        </p:grpSpPr>
        <p:sp>
          <p:nvSpPr>
            <p:cNvPr id="200" name=""/>
            <p:cNvSpPr/>
            <p:nvPr/>
          </p:nvSpPr>
          <p:spPr>
            <a:xfrm>
              <a:off x="3635280" y="393372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81440" y="386064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380360" y="551664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se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37236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844640"/>
            <a:ext cx="4176720" cy="331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200" y="5229360"/>
            <a:ext cx="388944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S.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CION DE LA ABSORCIO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133720"/>
            <a:ext cx="3024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I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365720"/>
            <a:ext cx="3024360" cy="19429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A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4941720"/>
            <a:ext cx="3240000" cy="159588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elimin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LCIO EN EL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708280"/>
            <a:ext cx="3456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645000"/>
            <a:ext cx="540072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869000"/>
            <a:ext cx="547236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217" name="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7640" y="1484280"/>
            <a:ext cx="367344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filtra el 60%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absorbe el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284640"/>
            <a:ext cx="2592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3640" y="14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17080" y="1844640"/>
            <a:ext cx="629640" cy="1746360"/>
            <a:chOff x="8317080" y="1844640"/>
            <a:chExt cx="629640" cy="17463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184464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317080" y="254268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20720" y="26002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239" name=""/>
            <p:cNvSpPr/>
            <p:nvPr/>
          </p:nvSpPr>
          <p:spPr>
            <a:xfrm>
              <a:off x="3924360" y="3357720"/>
              <a:ext cx="514440" cy="93960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7040" y="3361680"/>
              <a:ext cx="463320" cy="86724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932360" y="3213000"/>
            <a:ext cx="180036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4365720"/>
            <a:ext cx="252072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661000"/>
            <a:ext cx="446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hiben la resorción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STRIBUCION DEL HIE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Y 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7813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5013360"/>
            <a:ext cx="2376360" cy="129528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19640" y="5013360"/>
            <a:ext cx="5327640" cy="1595880"/>
          </a:xfrm>
          <a:prstGeom prst="rect">
            <a:avLst/>
          </a:prstGeom>
          <a:solidFill>
            <a:srgbClr val="d75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566100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267" name=""/>
            <p:cNvSpPr/>
            <p:nvPr/>
          </p:nvSpPr>
          <p:spPr>
            <a:xfrm rot="20914200">
              <a:off x="901440" y="265140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914200">
              <a:off x="1148040" y="261972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2887560"/>
            <a:ext cx="2089080" cy="828720"/>
          </a:xfrm>
          <a:custGeom>
            <a:avLst/>
            <a:gdLst/>
            <a:ahLst/>
            <a:rect l="l" t="t" r="r" b="b"/>
            <a:pathLst>
              <a:path w="2314" h="522">
                <a:moveTo>
                  <a:pt x="0" y="250"/>
                </a:moveTo>
                <a:cubicBezTo>
                  <a:pt x="257" y="148"/>
                  <a:pt x="515" y="46"/>
                  <a:pt x="772" y="23"/>
                </a:cubicBezTo>
                <a:cubicBezTo>
                  <a:pt x="1029" y="0"/>
                  <a:pt x="1286" y="31"/>
                  <a:pt x="1543" y="114"/>
                </a:cubicBezTo>
                <a:cubicBezTo>
                  <a:pt x="1800" y="197"/>
                  <a:pt x="2057" y="359"/>
                  <a:pt x="2314" y="522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2205000"/>
            <a:ext cx="4319640" cy="52056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342900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00" name="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03" name="" descr="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" name="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13" name="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18" name="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21" name="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25" name="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28" name="" descr="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" name="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EJO RENAL DEL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38" name="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43" name="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46" name="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987640" y="4292640"/>
            <a:ext cx="5940360" cy="2544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PASIVO PARACELULAR  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(+ H</a:t>
            </a:r>
            <a:r>
              <a:rPr b="1" lang="es-ES_tradnl" sz="2400" spc="-1" strike="noStrike" baseline="-25000">
                <a:solidFill>
                  <a:srgbClr val="80808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O)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ACTIV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+/K+/2Cl-: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ENTES NATURAL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60" name=""/>
            <p:cNvSpPr/>
            <p:nvPr/>
          </p:nvSpPr>
          <p:spPr>
            <a:xfrm>
              <a:off x="1727280" y="2781360"/>
              <a:ext cx="1199880" cy="1871640"/>
            </a:xfrm>
            <a:custGeom>
              <a:avLst/>
              <a:gdLst/>
              <a:ahLst/>
              <a:rect l="l" t="t" r="r" b="b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0800" y="2789280"/>
              <a:ext cx="1081080" cy="1727280"/>
            </a:xfrm>
            <a:custGeom>
              <a:avLst/>
              <a:gdLst/>
              <a:ahLst/>
              <a:rect l="l" t="t" r="r" b="b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17002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CION DE LA REABSORCION DE SODIO EN 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1484280"/>
            <a:ext cx="4608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.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3357720"/>
            <a:ext cx="334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.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11640" y="141300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147575"/>
              </a:gs>
              <a:gs pos="50000">
                <a:srgbClr val="2dffff"/>
              </a:gs>
              <a:gs pos="100000">
                <a:srgbClr val="14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373720"/>
            <a:ext cx="8496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Usuario</cp:lastModifiedBy>
  <dcterms:modified xsi:type="dcterms:W3CDTF">2011-10-24T14:36:21Z</dcterms:modified>
  <cp:revision>28</cp:revision>
  <dc:subject/>
  <dc:title>BIOELEMENTOS</dc:title>
</cp:coreProperties>
</file>